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4BA1-B082-40EC-8BDA-C3E90323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12C-3D87-4FA2-9DA4-A6B5E2B5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3B3C4-B2F4-45A3-9D6E-43A184B1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85192-DB03-4B61-ACF4-156028BE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0164D-8FAB-404F-A557-D1C2B497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A9E3E-14CE-42C0-958D-CB3C0397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38E57-4FC8-4E64-9FE1-A113232E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4D519-EBF9-429F-BE95-C9886D8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0C806-D98B-47BB-9D7C-50087E7A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4DE6C-B166-4A4D-86C3-F9AB1894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88B8B-2C63-47C3-91AD-4A0F9903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8E6AA-B494-439C-BA61-CAC318E3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C1D-4D2B-4610-BF11-EF641A5F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A9E85-F3E9-4BA4-8787-8BC6168B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00125-9979-40E9-93ED-18666BB5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8B990-FDFD-4C7B-B118-503AEC50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E3D3C-17BB-48A6-AB9A-D8381499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5517B-2A7C-484C-86CA-680D08F1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03AA-C9C0-40B9-A4BF-B6BE08B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CC8CE-5901-445F-9C78-2CAA75C3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1CBE9-7108-4BF8-BBD4-27461405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C9246-77F3-49F8-9258-319F299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ECE4D-8E94-428C-BFE1-F555EBCFC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11C-E80D-40F4-B37E-120D438B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08114-126B-4591-8610-E01890EC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BF1F9-E087-4E93-B113-9D5CAF2E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1CC64-70A0-4CC4-A357-A7653456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C8A2B-4D04-4C39-8700-FCA607FF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97E4C-576B-4518-A3E9-D8F60E55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5982C-F3AA-402E-96CA-A5E74EC0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4A613-0E6F-4455-B6BB-A173B0E5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B0E941-FF77-46F6-96F3-7282DAA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CBEE0-9099-4092-AC23-75D5D7D6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C5220-6696-4AC3-ADCD-2C6B71B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41E3-F9E9-42DC-82AD-0D8DFB04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DF76-119F-4507-9114-F26D204C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3EAC5-E0DB-42D0-94AC-C08F3D6D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4D0F7-7B3F-48A6-9CE7-C8AB6B25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42302-D80A-4A1A-ADB7-7D8821E9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125F6-3146-462B-8199-2CF97A01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FF8CC-76BB-4BA6-9946-3777250D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76BF5-23FB-49C9-8844-6412FF87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D8B45-EF49-4335-8002-23D6FA1A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60A71-7517-4713-A4A6-390C1BFB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67B6B-3620-4D34-897E-576548D8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B46D-AA74-4D6D-B758-E812E303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75678-8312-4BDE-A7EF-F91CA95A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B4D81-94D6-455F-B111-0662D35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1BB4C-0D56-4207-915F-2BD51CA4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104A3-857B-4794-9754-CFD5A6CE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33B93-69E2-45F9-812A-D41D7697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4A5F7-EDAE-463A-931C-AD3543BE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FC2CC-3642-4FDC-9762-C84849D7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C00E0B-2FAF-4AFB-86A8-5D43B215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73924-A63D-4457-A481-799E368B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409A0-7F5A-49D8-9E54-CA0CFA11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14A5-87CC-4C38-A2D7-0100495F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6EAE0-0596-4FCC-AC21-3DDD5AE1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5C3C0-D46A-4239-B254-D5187BF9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2C723-6CF8-482F-BEE4-344E2A28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2C9AD-DA52-4F32-AC0A-9160C1A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4D8A14-83F8-404F-8B56-0C3C8E98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0D4AA-EE44-48A3-B8C4-F911F8EF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E78BB2-0F3E-4F27-B280-29BCBCB9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44C03-4735-4448-A526-AD386223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4C5B9-C2D6-4B48-BBE0-A750AABA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4B6EB-6061-4474-8916-A6E017BB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9397-56AF-41F3-B1A1-E0EF783D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CF203-0BA7-43AA-BF6B-E94DBBE0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0986BB-0222-4DAA-A869-20EACF93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BD21FB-4686-4532-87BA-7B84ED3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08FAC9-9CD4-4C7E-B9FC-8DFDEDA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85F1A-7744-48FD-BD26-AC9D0E32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FA306-23A6-436B-8A9D-E4263BC6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54FCA-3627-4BC0-9A4F-2B0A8AA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2A76B-C42A-4562-8BE6-C24D1E34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758CA-D911-47B8-A74A-8DF88FDA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2D8D3-65E9-4058-AA01-64ACD2DA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4127-CB4E-4207-90E8-C87A0168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013092-F3E3-4444-80BF-549D9079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16032-E7F1-42EB-B416-8A306CC6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D32A5A-A63D-415F-92D3-5EFA98A1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612CCF-663F-4C20-B544-25602771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0B0CED-4191-41D5-923F-B5EF65D6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787A2-F564-4FCE-9D79-B39AD29A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601E1-5CFA-4358-B001-BD7175B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9A930-E531-449B-A57A-6657E87D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E1A11-E656-4E9A-80D9-FBD7705F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699BED-DAAB-47BA-A51F-BCE191C45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6BDB-0E5A-4B25-922B-9161EF03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CECF3-B0FC-46DC-91AA-873E55CE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A964C-D73F-4C06-BC75-7648345F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01A5C8-EC93-4441-94F1-0E11D1F1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E82A67-6676-4618-8E69-9BCA2C2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68131-2566-45E0-8E89-3145F26F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265DD-BF23-40A2-B2C9-5108B495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C4A61-953D-440D-B8B1-912A50E4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890EDA-F59B-42FD-B0E9-5FC41385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B302D-F194-4576-8598-00B1A140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B34DC8-E01C-4DB6-AFAB-5182F1E3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8918-E508-4B49-8313-49BEB714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582D60-1306-4D43-83CE-5B1385DA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2B7B3-9DD2-4469-A098-A7A0F49B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B18FE-78F1-400F-8ECC-8C1BC623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21A48-5222-44E3-B3EF-313F503A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F16035-13B2-41CC-AC67-B3F881C5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CDC97-FFD7-460B-BAD7-FD880AE1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EF46D-D8A4-4827-9CD4-4F787C62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623A52-E689-4BE6-AB05-424843B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CE1B22-10AD-4CC9-A9CD-0123B518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40669-07E8-4711-823E-B799612F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CCE-A3A5-4C4B-89CA-561CD83C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9773-6369-4020-A5BD-70A3936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CEEF3-1880-4F47-B039-42F14D5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DD6340-B9D4-4313-B7D5-2DB577E2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E0C23-CE85-4B04-ABCF-37ADE699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BC8D7-D138-42AE-BEC9-31356EF9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2E08C-3FD2-41F6-BC9A-A83A7E2E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DCE024-3131-46FB-828E-5E47C2B3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634DCD-40B6-4011-8C0F-4ABFBC0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C5F52-1650-456E-B698-0B36E8D8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7561F7-99D7-4FB5-8F64-094AD511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C6A31E-2D2D-4437-8096-B8B87605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5B80-7301-4B7E-B933-E711E54C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7711F2-60AD-4F91-A1D2-C3861C8B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8070B0-9074-4007-89E4-A992A95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B28D8A-6066-425A-99E4-3A07FCF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236F69-20BD-4A55-881B-1B56661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D0B864-9C9F-4AB5-BBB3-F4A4CAE9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E6AEBD-1287-4A3C-AFA0-8F6D2434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E2B2D-23BF-4FBC-96D0-EC8ED8E08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45EFD9-47DC-447A-963B-F00CCD94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A0093-D1C2-4603-86BD-4D835FAC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6D899E-E4E0-4057-8D0E-C62543CE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D380-DF92-4845-B7A3-EDA21E9C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24BF6-92EB-4333-AACF-26AA42EE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B6C122-30D1-4F48-82C7-C696809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D5D775-2ED3-4718-B48C-DEE68638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6AA14-4C34-4512-BE37-D7D5058F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DA7BDD-A1F7-4B27-B4A7-B71BDAA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F95946-82F6-473B-B9FB-7398E310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4E820F-650B-4386-B2E9-1A14A80A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6E0CC3-F554-40FD-AE2A-52F12D65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70A7CB-B687-4FF8-BEFD-CF9D10E3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9BD9F-1A07-4B9C-90F8-5E8426FD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E96C-A9DC-47CD-8064-4743A4B9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F4F23F-8F60-42DB-8E3C-B511A3F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9BE280-5951-4E9F-A3C5-CF288FA5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555B5-76B9-4C1E-8F84-3F55AD0F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7DCF8E-5A92-47D2-846F-36014CD4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FD201-6864-4117-BE08-69115978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1CDE9-60AD-4425-A656-0F91C014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D4A2FC-4C72-41E0-BA17-2F6457B7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F7F5D3-E370-4BB6-AFA7-EBFC7BE4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47419D-B4BF-4D11-A4F9-8F8E1A25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032CC7-CB10-40BD-9987-3E911F3F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D522-03F6-4645-A008-2DF2D5B5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60D311-8A6C-4B3E-B33B-0641786A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C7D19F-17DD-4C57-93C5-205D6F5B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74EE5-CEED-42F1-9D46-D303BECA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9316B-00E0-4FE8-8589-FFD6B886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86F99-F021-4AFF-9CAA-3B6AEBBB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A018C6-2833-49ED-92BA-642FFB4D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5043CE-278D-446E-BE7D-1DB78DF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BA2CA-065D-4CC9-9ACE-86571BE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47A5B-BE23-4805-A79F-412D5D86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23E559-E548-4A15-9BFE-9E99EA6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76F6-D525-490B-885C-DD75F3F1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0C8A98-D3F3-41EE-9B89-D54FE4D8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92FB4B-2A1C-421D-B93D-4E5B1BC13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1A9EC2-FF7F-434A-8F3E-D804299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F4CF-CF8E-40DA-855B-46D344FC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901E-860A-44FA-9BCE-25DAB9D4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3A538-8E60-4832-B4E3-12AF0EA0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B3C2-1233-4514-A0C6-0513FD92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E44-075B-4F18-8E59-A2669DD6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D491-67D5-4BAC-A93B-ED995C37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D7E95-63C9-47F5-B3B1-45098970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9EF5-865E-4D55-9F8B-AECF91A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22D7C-69B6-4369-A75E-E41955B9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E4FA-BDEB-484E-AE50-72CC6A91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E0436-4723-4255-99C2-070E5A2A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0121C-CBB4-4706-A51F-1752AF23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C3B0A-2E32-4922-A958-60FD49D4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A0299-B829-4CCE-91D7-11CB6B8E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1A4D-9F8E-440D-8B9E-B025553A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3211-4A6E-418B-8012-93BFF8DB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4849C-54CC-40DB-8FF7-38A2B14D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139B-9F3E-41F5-BAD9-1E5A9807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B278-B3DC-4663-B184-41B79E3D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E0AC-6A74-4D9E-A6EC-7F6CB114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66138-0C3D-4D68-A60F-498285B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69938-F5D0-4632-A6F4-E2207E8F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DAFB-666F-4D7E-80BD-E0B71FB2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6D46-3A3E-441D-BE20-B115C7FF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D418F-8519-4F79-A84C-8875D750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265B4-D3C4-4515-BAB0-F3F59D53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7284-6ADF-4771-B185-28626729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4E905-FD37-461B-AABD-69FD54B1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D7DE4-5F98-4622-85BF-616FF1D3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6F192-49FF-441D-B514-FBBE7785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53A0-D73E-4190-A156-ECC27C8F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0E204-3229-45C8-8274-FCAF0161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9A7C-094F-477B-A3F3-81DDC24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68D6-5822-4F9C-ACE5-BE494CD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EE847-F9FE-4284-8923-132BB54F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CD979-1819-4E39-B1EF-326A4BD4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3C851-DCB3-416F-A2D9-79E5146E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932F-F0AC-4751-B59D-512C208D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D37A-6EC2-4EEF-953C-7752461C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47C85-C9CF-489B-A52A-8EC4A708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C4D6F-2795-4B1A-8D54-137465D8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70F3-0474-47A3-AA27-5BC17E7A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89F25-96D0-481A-A8CB-59BC047F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381FB-90CF-45C6-8210-BBAC1275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654C-0BFE-47D8-A00C-E95C5548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BDE3-F992-4B7D-B2F6-463A0050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0458B-340B-4A9E-9073-CDC4B724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A7C46-4270-496A-A493-DD2507C7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248-2C02-4EF3-85D9-DCF49CA0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2966E-FDBC-4636-8A7C-4D39AFDF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0DE3B-8C74-4C67-B863-FDCBA097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22480-3497-4F64-A216-DAB7CB08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F4490-4BF8-41FC-9C57-110A5A42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C95D8-0F6B-4649-B6FD-AB3FF683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9EB3-B9A4-4FD2-8CCA-7559946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91734-B18B-44AD-9831-5514810B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DE1CC-CB58-455F-BDB0-96EEC19A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EA47B-57CE-49D4-8977-3C54CEB6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7C6E-F759-472E-8612-07966535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8E6-A78A-4966-A9FB-8CB013E9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B824B-8542-45BD-B6D5-9CB1DFA6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FE10-9C59-4190-85C0-8EFE5C3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E511D-3006-4187-8CF6-0D028C02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F24A8-CD03-480E-B41B-8E83B466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E82EF-F0AB-4F86-AA82-F2347FF2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9233B-80F2-45B6-B43C-FA178288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B0FDD-2517-48DB-ACEF-B512D242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450E1-32F7-42D8-AE33-60DA0DAE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BB528-2FD2-4125-BE5A-300DA319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C7A9D-8800-4235-8AB8-F3834E2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4DB-72CD-4147-A54C-890451D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D275C-32E8-4174-9A28-4C517233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7DACE-0ED3-4D26-9BBF-394A2334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E4B7D-826D-44C8-9C44-C294B8DE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C3DC4-0F80-4FD2-8B8F-9AF479EB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409D9-7782-4F7F-966C-5AE99261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A8389-5F18-4A26-B97F-EF59099E1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806D5-7FEA-467C-8F1A-B69699AD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90458-564A-486D-B530-CD932E29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4C97A-744C-4AF4-95C0-A2EA0FD9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8F33C-44E0-4473-9516-4541A29E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062-1E73-4195-AC34-7C1DB338C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91A4-404A-4B95-AEC8-E31D8F2A3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9418-CDD4-4421-8FFA-FBB5512FF1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51E7-0D43-4E84-9C23-3ECE695EB5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13FE-B92C-4D39-93CF-81A7843902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44B2-C289-49EC-B17A-BD71D0BAE3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45F-D948-4ED4-BE67-C295FF76DA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D7AF-F616-4AC4-AB34-E8EA8EE31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CA3D-819F-4C37-8AF0-EA63E38FDC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D45E-822F-4C5F-AB74-F178F81123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A321-D16C-4FF0-9296-5FD0BDC428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1AE7-CBF3-4590-8951-1A23B22AD2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3F96-F545-413D-A650-24F802E80F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01C8-701C-4C50-ABE7-DBB1118AC0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74C6-2E82-4498-9BC3-204F9233F9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E9CB-49A5-4C0E-AFCA-AF10EE4FF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F4D8-AD17-475C-A42B-22FD6FDB10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98B2-1052-4790-AC8B-961F19D37C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C535-6AE2-4065-9047-4C0347880B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0837-02C6-4DDE-83D7-3D66D721B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611A-0298-4297-9CF1-983EF63678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3237-6539-4BAF-A900-9F34C7222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7C9F-7926-4B01-A73A-62938F8CAC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CD0-002E-44B4-88AC-1C900F38E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F31F-230B-4B47-9782-9F21DDFA6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C92-E31A-4C00-9C8A-943D00A5B6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7AB6-F339-401B-9157-3F19DA16EC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145F-D37E-45BE-9E3A-59CB6B746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17B-A9C6-44EE-9B5C-91E793CF1C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70D2-6F69-4BFA-B8B1-4F160E2E2C5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BB89-D9EC-4C7D-B3BE-369FDCE06F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718-0A97-40B3-905F-BD074CFA3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6473-3D12-47D4-9C14-81A12574F3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CFE9-E111-4569-BCD4-763EC1E66D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E3A-9702-4EAC-8327-94516BC494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2779-A62A-4C27-9FBE-C90495388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7543-453A-46A4-BB61-18284B07E4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6313-815F-4746-AB3F-6AA68C7B0E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863E-E387-4680-9865-953DD25B33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D5DC-4790-40E8-97ED-38C5AAC1D6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67000" y="2833560"/>
            <a:ext cx="6210000" cy="11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39640" y="185760"/>
            <a:ext cx="7944120" cy="62676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692360" y="13129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619280" y="2205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619280" y="3141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619280" y="4076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419120" y="2200320"/>
            <a:ext cx="6305760" cy="2457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1835280" y="2276640"/>
            <a:ext cx="50472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61920" y="961920"/>
            <a:ext cx="9018720" cy="49341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835280" y="537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6156360" y="53150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119240" y="1928880"/>
            <a:ext cx="6905520" cy="30002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2338560" y="44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6588000" y="44226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图片 1" descr=""/>
          <p:cNvPicPr/>
          <p:nvPr/>
        </p:nvPicPr>
        <p:blipFill>
          <a:blip r:embed="rId1"/>
          <a:stretch/>
        </p:blipFill>
        <p:spPr>
          <a:xfrm>
            <a:off x="1014480" y="1095480"/>
            <a:ext cx="7115040" cy="4667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2"/>
          <a:stretch/>
        </p:blipFill>
        <p:spPr>
          <a:xfrm>
            <a:off x="2124000" y="234936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2124000" y="422100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733320" y="1757520"/>
            <a:ext cx="7677360" cy="3342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776160" y="958680"/>
            <a:ext cx="7591680" cy="53802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835280" y="5013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835280" y="400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835280" y="59500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908000" y="213372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908000" y="3068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4:3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